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D82D1-F6F5-42C7-9CA0-5745DCCB98A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B6573-5E4E-486A-B07F-B937420E98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05D62-2B45-4B05-B742-AC00C86BB1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0CFC1-9BD0-4F78-BA1C-F89899903E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998E8-4D2F-4169-8C82-61927967A9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842B8-12C1-41AD-A50C-FC64BAEDD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D387F-A085-4785-A3D2-840D63232C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9912B3-2D2B-4BD1-9113-09BD4AF01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5ECC6C-F5C1-4071-85F1-4A7A4BDD7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AF6020-F231-45EF-A779-48C4953B0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CA5136-BC32-482F-ABC3-7099382FD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F2ED8E-1969-4249-BA11-FB4A469E1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B3CE9-C250-4658-9C5F-E233B2450B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8C87F5-D701-4118-B6CB-B3ABFEF896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B803-C224-41DC-AB86-846147661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FDE9D-F7D2-4843-A165-5C3EADA10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D5177-AE05-4B8D-A6A1-C53F3F445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A0AB92-F59E-4AC9-9A5F-3AEAB34CC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5C12F-7DEE-4810-9B60-68755B767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45FD6-1B5E-4D78-A289-2CB1FD58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84B71-055D-406F-B750-3B953DDFA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002F-ACED-43DD-BC15-CB9F2542C0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55A5E-9556-4513-AE5D-3A8F52789F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F7BB-5D95-4AA7-8D2F-D35B829BA6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60AC8-B37F-4A15-972A-7B67F250B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BAAE-0815-4FC5-97CC-23CAE85AED2B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4AA0B-A46F-43C6-8143-126B1A0F6E2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4;&#1077;&#1085;&#1072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73;&#1072;&#1085;&#1082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1"/>
          <p:cNvSpPr/>
          <p:nvPr/>
        </p:nvSpPr>
        <p:spPr>
          <a:xfrm>
            <a:off x="3557520" y="6021360"/>
            <a:ext cx="2895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6986520" y="6021360"/>
            <a:ext cx="1905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A72E-A955-4609-A163-E0B645FDC70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ые отношения в эконом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71080" y="2976480"/>
            <a:ext cx="766764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Экономические систем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чные структур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нкуренция и монополия.</a:t>
            </a:r>
            <a:fld id="{BAF2AB39-476A-4891-AD30-7BF7150DE9F0}" type="slidenum">
              <a:rPr b="0" lang="ru-RU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ременный рын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тановление рыночной экономики в Росси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B77165-94A9-4D9B-A533-047C7DCC99F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свободного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4E65A-8C74-463A-B36B-3DA9419E68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Взаимовлияние спроса и предложения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371600" y="2209680"/>
            <a:ext cx="152280" cy="152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838080" y="2133720"/>
            <a:ext cx="43434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Спрос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общественная потреб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выраженная в денежной форме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обеспеченная платежными средствам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азмеры спроса зависят от уров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денежных доходов населения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сумм, выделяемых произв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на приобретение средств производ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15000" y="2514600"/>
            <a:ext cx="342900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Предложение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совокуп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товаров и услуг, котор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могут быть реализованы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ын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48520" y="4038480"/>
            <a:ext cx="259056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Влияет на 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(формирует его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утем формир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ассортимента  това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и услуг, и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19720" y="1676520"/>
            <a:ext cx="2438280" cy="99036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144720 h 990360"/>
              <a:gd name="textAreaBottom" fmla="*/ 845640 h 990360"/>
            </a:gdLst>
            <a:ahLst/>
            <a:rect l="textAreaLeft" t="textAreaTop" r="textAreaRight" b="textAreaBottom"/>
            <a:pathLst>
              <a:path w="21600" h="21600">
                <a:moveTo>
                  <a:pt x="15458" y="11353"/>
                </a:moveTo>
                <a:cubicBezTo>
                  <a:pt x="15480" y="11170"/>
                  <a:pt x="15491" y="10985"/>
                  <a:pt x="15491" y="10800"/>
                </a:cubicBezTo>
                <a:cubicBezTo>
                  <a:pt x="15491" y="8209"/>
                  <a:pt x="13390" y="6109"/>
                  <a:pt x="10800" y="6109"/>
                </a:cubicBezTo>
                <a:cubicBezTo>
                  <a:pt x="8209" y="6109"/>
                  <a:pt x="6109" y="8209"/>
                  <a:pt x="6109" y="10800"/>
                </a:cubicBezTo>
                <a:cubicBezTo>
                  <a:pt x="6108" y="10837"/>
                  <a:pt x="6109" y="10874"/>
                  <a:pt x="6110" y="10912"/>
                </a:cubicBezTo>
                <a:lnTo>
                  <a:pt x="3" y="11058"/>
                </a:lnTo>
                <a:cubicBezTo>
                  <a:pt x="1" y="10972"/>
                  <a:pt x="0" y="1088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26"/>
                  <a:pt x="21574" y="11652"/>
                  <a:pt x="21524" y="12075"/>
                </a:cubicBezTo>
                <a:lnTo>
                  <a:pt x="24205" y="12394"/>
                </a:lnTo>
                <a:lnTo>
                  <a:pt x="17812" y="17428"/>
                </a:lnTo>
                <a:lnTo>
                  <a:pt x="12777" y="11035"/>
                </a:lnTo>
                <a:lnTo>
                  <a:pt x="15458" y="1135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16"/>
          <p:cNvSpPr/>
          <p:nvPr/>
        </p:nvSpPr>
        <p:spPr>
          <a:xfrm flipH="1" flipV="1">
            <a:off x="4419720" y="3048120"/>
            <a:ext cx="1828800" cy="21333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15392" y="6203"/>
                </a:moveTo>
                <a:cubicBezTo>
                  <a:pt x="14174" y="4985"/>
                  <a:pt x="12522" y="4302"/>
                  <a:pt x="10800" y="4302"/>
                </a:cubicBezTo>
                <a:cubicBezTo>
                  <a:pt x="7211" y="4302"/>
                  <a:pt x="4302" y="7211"/>
                  <a:pt x="4302" y="10800"/>
                </a:cubicBezTo>
                <a:cubicBezTo>
                  <a:pt x="4301" y="10985"/>
                  <a:pt x="4309" y="11170"/>
                  <a:pt x="4325" y="11354"/>
                </a:cubicBezTo>
                <a:lnTo>
                  <a:pt x="39" y="11721"/>
                </a:lnTo>
                <a:cubicBezTo>
                  <a:pt x="13" y="11415"/>
                  <a:pt x="0" y="1110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62" y="-1"/>
                  <a:pt x="16408" y="1136"/>
                  <a:pt x="18433" y="3159"/>
                </a:cubicBezTo>
                <a:lnTo>
                  <a:pt x="20341" y="1249"/>
                </a:lnTo>
                <a:lnTo>
                  <a:pt x="20345" y="8110"/>
                </a:lnTo>
                <a:lnTo>
                  <a:pt x="13484" y="8113"/>
                </a:lnTo>
                <a:lnTo>
                  <a:pt x="15392" y="620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143000" y="4191120"/>
            <a:ext cx="2971800" cy="2286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Определяет предлож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через готовность оплат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имые товары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услуги. Чем больше спро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тем больше цена тов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и устойчи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ст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2A136-3369-4868-BEC5-E827F9496D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акторы, определяющие спрос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овой фактор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цена товара или услуги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ff"/>
                </a:solidFill>
                <a:uFillTx/>
                <a:latin typeface="Arial Narrow"/>
                <a:hlinkClick r:id="rId1"/>
              </a:rPr>
              <a:t>Цена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оличество денег, других товаров и услуг, уплачиваемое и получаемое за единицу товара или услуг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ценовые фак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Численность потенциальных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еличина дохода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личие заменителей товара или услуг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жидаемое поведение цен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енная полити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C8DED-4A4A-4CBE-B0D8-90A9F1620D9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ильные стороны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циональное распределение ресурсов между различными сферами деятель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вобода выбора и действий производителей и потреби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имулирование внедрения достижений научно-технического прогресс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ездефицитность рынка, удовлетворение разнообразных потребност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E86AC-683F-431E-8C0B-C751B1F923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лабые стороны (“изъяны”)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857F8-CBF8-4681-8517-AC2E5EFD261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Государственное регулировани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жет компенсировать изъяны рыночного регулирова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рямое(административное)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Косвенное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регулирование объемов денег в обращении, политика в области налогообложения, таможенных пошлин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CD4722-D298-44B2-9446-BAE90B5775B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Критерии характеристики рыночной структур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объекта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товаров и услуг, труда и капитала, информации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убъектам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покупателей, продавцов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географическому положению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местный, регион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тепени ограниченности конкуренци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свободный, монополистически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оответствию законодательству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легальный, нелег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F6BFC-5B69-4E01-9FA4-2190ECE771B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120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ый рынок</a:t>
            </a:r>
            <a:br>
              <a:rPr sz="4400"/>
            </a:b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(Рынок ценных бумаг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вар – эмиссионные бумаг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Эмиссия (выпуск ценных бумаг)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астная(выпуск акций и облигаций акционерными компаниям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осударственная (выпуск облигаций государственных займов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2D355-62C2-4C14-A4F7-571235FE19C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Финансовые документы, в которых зафиксированы права их владельца или предъявител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B6670-3BE9-4402-9FC9-88087132E2F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91ACB-FE07-450F-B71E-E60BD6E752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Экономические систем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ыночна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C7CF0-1256-4010-98BA-EC4D36199F2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Облигация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F6B78-6C5F-4A6B-9F83-737B524F4F61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значейские обязательства государ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ексел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берегательные сертифика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ек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кредитив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олговые распис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вещан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BD2E0-BE14-4CD4-99FC-EA270D69CB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ункции рынка ценных бумаг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здание условий для передела собственност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уществление покрытия дефицита текущего бюдже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FC4B0C-25B9-4E95-B5B5-2FBE7A961A8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ая бирж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B5FDE1-D1A6-4411-9FCC-5897058502C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раструктура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вокупность институтов, служб, предприятий, обслуживающих рынок, особую роль в которой играют </a:t>
            </a:r>
            <a:r>
              <a:rPr b="0" lang="ru-RU" sz="3200" spc="-1" strike="noStrike" u="sng">
                <a:solidFill>
                  <a:srgbClr val="6666ff"/>
                </a:solidFill>
                <a:uFillTx/>
                <a:latin typeface="Arial Black"/>
                <a:hlinkClick r:id="rId1"/>
              </a:rPr>
              <a:t>банк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5F109-91C3-4853-8031-EE1B6E04FC1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соперничество фирм покупателей и продавцов на рынк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ополистическ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лигополистическ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совершенн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нов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ценов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7D4961-4960-471A-9C20-EDE4075E70E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Недобросовестная 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022CFF-E08C-4F29-A06A-ABEC041D637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Чистая конкуренц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совершенная, идеаль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F5F76-DDB3-4FE6-8CE6-4B89CF01FFA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ичины возникновения монопол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 Black"/>
              </a:rPr>
              <a:t>Монопольная цена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4639A1-306F-46B5-ABE0-47A35D08A0D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Взаимодействие рынка и государств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вляется обязательной составляющей механизма возникновения монополи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219320" y="2895480"/>
          <a:ext cx="7924680" cy="3645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пуститель-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ощрение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восходство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становление естественных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не противостоит возникновению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о поощряет возникновение монополий путем установления тарифов, патентов, при реализации политики протекцион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допускает превосходство монополиста в технологиях, вт.ч. управленческих, что ведет к разорению остальных продавц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ление государственных монополий (на пользование или добычу сырья, выпуск денег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C4EB9-906F-4343-A864-62A70758B0E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Традиционная экономика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изводство обмен, распределение доходов базируются на освященных временем обыча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3D9EE-EF9B-4585-B288-1826734BBECB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55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ом средств производства и ресурсов является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полностью регулирует все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определяется государством, есть черный рынок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8232C-6DB0-4198-A0A1-0F216A28038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еобладает частная собственность на ресурс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Существует конкурентная сред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Цены и уровень зарплаты складываются стихийно,  под влиянием спроса и предлож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Государство выступает в роли частной фирм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07C877-D803-4A00-B2E9-299255C379DD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Смешан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в основном регулирует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28555-0FDB-40CF-AF39-037019D3129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          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к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дельная сфера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есто для осуществления торговых операци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2C085B-B689-4A7F-9156-35E093E297B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ое предложение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роизводитель свободно решает, что, как, сколько, для кого производить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ый спрос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отребитель сам решает, что, где, как, сколько покупать)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ая (свободная) цена зависит от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C5A20-2BD1-4E76-8294-E924F0C6836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19320" y="2209680"/>
            <a:ext cx="167616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Финансовы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809880" y="2209680"/>
            <a:ext cx="16765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ова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и услу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2209680"/>
            <a:ext cx="18288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факто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219320" y="3429000"/>
            <a:ext cx="1143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дене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819520" y="3581280"/>
            <a:ext cx="12952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апит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181480" y="3581280"/>
            <a:ext cx="12956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зем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7543800" y="3657600"/>
            <a:ext cx="13716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ру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AutoShape 19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20"/>
          <p:cNvCxnSpPr>
            <a:stCxn id="172" idx="2"/>
            <a:endCxn id="176" idx="0"/>
          </p:cNvCxnSpPr>
          <p:nvPr/>
        </p:nvCxnSpPr>
        <p:spPr>
          <a:xfrm>
            <a:off x="2057400" y="3047760"/>
            <a:ext cx="14104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21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2"/>
          <p:cNvCxnSpPr>
            <a:stCxn id="174" idx="2"/>
            <a:endCxn id="177" idx="0"/>
          </p:cNvCxnSpPr>
          <p:nvPr/>
        </p:nvCxnSpPr>
        <p:spPr>
          <a:xfrm flipH="1">
            <a:off x="5829120" y="3124080"/>
            <a:ext cx="16387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3"/>
          <p:cNvCxnSpPr>
            <a:stCxn id="174" idx="2"/>
            <a:endCxn id="178" idx="0"/>
          </p:cNvCxnSpPr>
          <p:nvPr/>
        </p:nvCxnSpPr>
        <p:spPr>
          <a:xfrm>
            <a:off x="7467120" y="3124080"/>
            <a:ext cx="76284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Rectangle 24"/>
          <p:cNvSpPr/>
          <p:nvPr/>
        </p:nvSpPr>
        <p:spPr>
          <a:xfrm>
            <a:off x="1523880" y="4876920"/>
            <a:ext cx="14479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ценных бума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505320" y="4876920"/>
            <a:ext cx="13716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реди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400800" y="4724280"/>
            <a:ext cx="1371600" cy="10670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AutoShape 28"/>
          <p:cNvCxnSpPr>
            <a:stCxn id="174" idx="2"/>
            <a:endCxn id="186" idx="0"/>
          </p:cNvCxnSpPr>
          <p:nvPr/>
        </p:nvCxnSpPr>
        <p:spPr>
          <a:xfrm flipH="1">
            <a:off x="7086240" y="3123720"/>
            <a:ext cx="381600" cy="1600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1"/>
          <p:cNvCxnSpPr>
            <a:stCxn id="176" idx="2"/>
            <a:endCxn id="184" idx="0"/>
          </p:cNvCxnSpPr>
          <p:nvPr/>
        </p:nvCxnSpPr>
        <p:spPr>
          <a:xfrm flipH="1">
            <a:off x="2247120" y="4267080"/>
            <a:ext cx="12200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2"/>
          <p:cNvCxnSpPr>
            <a:stCxn id="176" idx="2"/>
            <a:endCxn id="185" idx="0"/>
          </p:cNvCxnSpPr>
          <p:nvPr/>
        </p:nvCxnSpPr>
        <p:spPr>
          <a:xfrm>
            <a:off x="3466800" y="4267080"/>
            <a:ext cx="7246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Rectangle 33"/>
          <p:cNvSpPr/>
          <p:nvPr/>
        </p:nvSpPr>
        <p:spPr>
          <a:xfrm>
            <a:off x="3200400" y="457200"/>
            <a:ext cx="2819520" cy="1143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932"/>
                </a:solidFill>
                <a:latin typeface="Arial Black"/>
              </a:rPr>
              <a:t>Рын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AutoShape 39"/>
          <p:cNvCxnSpPr>
            <a:stCxn id="190" idx="2"/>
            <a:endCxn id="172" idx="0"/>
          </p:cNvCxnSpPr>
          <p:nvPr/>
        </p:nvCxnSpPr>
        <p:spPr>
          <a:xfrm flipH="1">
            <a:off x="2057040" y="1599840"/>
            <a:ext cx="25531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AutoShape 40"/>
          <p:cNvCxnSpPr>
            <a:stCxn id="190" idx="2"/>
            <a:endCxn id="174" idx="0"/>
          </p:cNvCxnSpPr>
          <p:nvPr/>
        </p:nvCxnSpPr>
        <p:spPr>
          <a:xfrm>
            <a:off x="4609800" y="1599840"/>
            <a:ext cx="285804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0" idx="2"/>
          </p:cNvCxnSpPr>
          <p:nvPr/>
        </p:nvCxnSpPr>
        <p:spPr>
          <a:xfrm>
            <a:off x="4609800" y="15998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56Z</dcterms:modified>
  <cp:revision>35</cp:revision>
  <dc:subject/>
  <dc:title>PowerPoint Presentation</dc:title>
</cp:coreProperties>
</file>